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EB6A-8B98-4CAD-9A00-7D3E7F8DCBB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511D-98AB-4C5A-A259-7E253A4CE38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3FB-AF4B-4881-B1A7-8E01A023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CA9-6AB4-4DD0-B060-231A5C74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EC9-7C67-4CBE-AC1B-38C30711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4A6-F2C6-478E-A828-4AB71489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0A1-93C0-4771-8F95-87CB2805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819-86EE-4A07-89F0-25AB6983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838-3ED6-4F50-87A8-BB285B66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ED6-5AA4-4071-98DD-72109FE2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BFB-50F1-4FE6-B175-26FB0418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283-36C6-4CDA-9865-CF5C65CA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65C-3F42-430F-A755-022A9DBC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828-7471-4347-B432-E3B0B812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4530-07CC-429B-98B2-A6C6A059DF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hyperlink" Target="http://www.kndchita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2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817560"/>
            <a:ext cx="8350200" cy="62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принципы формирования т. 2100 ф. №37 с 2016 года изменены в соответствии с новым Порядком диспансерного наблюд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чиная с 2016 отчетного года в таблице 2100 ф. № 37 следует показывать только тех пациентов, которые состоят под диспансерным наблюдением у врача психиатра-нарко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наркологических пациентов, которые были взяты под ДН в течение отчетного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циенты с впервые в жизни установленным диагнозом наркологического расстро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веденные из других наркологических организ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овь обратившиеся с обострением  наркологического заболевания или иными при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0F45-B747-4E5B-B227-B6502119E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0"/>
            <a:ext cx="8229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пациентах, снятых с  ДН по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твержденная стойкая реми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озможность обеспечить осмотр пациента, несмотря на все принимаемые меры, в течени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ерть паци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ждение пациента к лишению свободы на срок свыш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менение постоянного места жительства с выездом за пределы обслуживаемой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ьменного отказа пациента от Д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E0A0-B730-4712-B188-7D5613F23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очные алгоритмы проверки остаются без изменения по сравнению с 2015 годом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межгодовой проверки по стр.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8 стр.11 2016 г. + гр.4 стр.11 2017 г. – гр.6 стр.11 2017 г. = гр.8 стр.11 2017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0E80-9252-4027-B8F6-B63DB4A2C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 с пациентами, которые на конец 2015 г. находились на проф. учете с диагнозом «пагубное употребление», не были осмотрены (сняты) в течение 2016 г. и были включены в гр.8 т. 2100 2016 г.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следующие вари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не явился на осмотр в 2017 г., снимается с наблюдения по одной из причи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6 т. 2100 (снятые) не пок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смотрен в 2017 г. и дал согласие на ДН. Взят под ДН, включается в гр. 4 т.2100 (впервые в данном году) и в гр.8 т. 2100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ключается в гр.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ациент осмотрен в 2017 г., но не дал согласие на ДН.        Пациент снимается с уч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 6 (снятые) не пок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D11C-2CC3-401A-B93F-77EDCB1E9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межформенная проверка т.2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№ 11 и т.2100 ф.№ 3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ациентов с впервые в жизни установленным диагнозом наркологического расстройства в т. 2000 ф. №11 по соответствуюшим диагностическим группам больше (на малых цифрах может быть равенство) числа пациентов, взятых под ДН (гр. 5 т. 2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№ 37)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D532-32B3-4167-8B88-4797F1171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е ранее действующих алгоритмов проверок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и движение пациентов, находящихся под ДН в стр. 6.1. ф. № 12, должно полностью соответствовать движению в таблице 2100 ф. № 37 !!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9478-1AD1-4DF3-AC09-6DF4DB0A2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оказывать пациен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щих под ДН в ф. № 12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23-96-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olnica"/>
          <p:cNvPicPr/>
          <p:nvPr/>
        </p:nvPicPr>
        <p:blipFill>
          <a:blip r:embed="rId2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76040" y="144360"/>
            <a:ext cx="82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лагодарим!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39840" y="1771560"/>
            <a:ext cx="84834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ские организации здравоохранения, подведомственные Министерству здравоохранения Забайкальского края, отчеты которых в наибольшей степени удовлетворили требованиям составления ф.№ 11 и № 37 за 2016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г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Чит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лександрово-Завод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га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ар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АУЗ «Краевая больница № 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Забайкаль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Оловянн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2440" y="176040"/>
            <a:ext cx="85010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шибки! Ошиб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2100 «Контингенты пациентов, находящихся под наблюдением психиатра-нарколога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200 «Деятельность врачей, осуществляющих амбулаторную помощь пациентам наркологического проф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70 «Контингенты пациентов, проходивших обязательное или альтернативное амбулаторное лечени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500 «Наркологическое освидетельствование» (разница с формой № 30, табл. 25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4000 «Обследование зарегистрированных пациентов на наличие гемоконтактных инфекц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ктуальные формы ФСН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овый Порядок диспансерного наблюдения пациентов наркологическ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№ 410 от 16.10.2013 г. (формы № 11 и № 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2016 году формы были адаптированны с учетом Приказа Минздрава России № 1034 от 13 декабря 2015 года, регламентирующего Порядок оказания медицинской помощи по профилю «психиатрия-наркология» и Порядок диспансерного наблюдения за лицами с психическими расстройствами и (или) расстройствами поведения, связанными с употреблением психоактив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168D-E47D-40DF-928B-790DD9299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24000"/>
            <a:ext cx="807552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нимание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42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ряд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го наблюдения за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сихическими расстройствами и (или) расстройствами поведения, связанными с употреблением психоактивных веществ, утвержденный Приказом № 1034 Минздрава России от 13 декабря 2015 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нцепц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блюдения за пациентами с наркологическими расстр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я «профилактическое наблюдение», «профилактический учет», «профилактическая группа» в новом Порядке отсутствую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как для пациентов с диагнозом «Синдром зависимости» (код заболевания по МКБ-106 – F1x.2), так и для пациентов с другими наркологическими расстройствами, включая  группу пациентов с диагнозом  «пагубное употребление ПАВ» (код заболевания по МКБ-10 – F1x.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только при наличии добровольного информированного согласия пациента в письм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лись сроки  прекращения диспансерн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23D2-2285-4838-80C8-D2CECC927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11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заболеваниях наркологическими расстройства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014360"/>
            <a:ext cx="822960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1 имеет в своем составе 3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825F-BD1A-4C5D-ACA3-E61B5CE4A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4572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осуществляется при первом в данном году обращении пациента за наркологической помощью (ф.№ 030-1/у-02, ф. № 025-1/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сведения показываются обо всех пациентах наркологического профиля, которым в течение отчетного года была оказана амбулаторная лечебная, консультативно-лечебная, реабилитационная помощ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регист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пациент в течение  отчетного года может быть зарегистрирован только с одним наркологическим заболеванием и только один раз показан в ф. № 11 (по заключительному диагноз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3324-FFAA-4165-8389-4F0BFE39F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следование зарегистрированных </a:t>
            </a:r>
            <a:br>
              <a:rPr sz="2800"/>
            </a:b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ациентов на наличие гемоконтактных инфекций (т. 4000 ф. № 1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5276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ациенты, обратившиеся в течении года за амбулаторной наркологической помощью, должны быть обследованы на ВИЧ, гепатит С и гепатит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Ч-позитивные пациенты, находящиеся под диспансерным наблюдением в наркологическом учреждении, но по каким – либо причинам не были обследованы в отчетном году,  также должны быть показаны в т. 4000 ф. №11 как ВИЧ-позитив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A1AD-42A4-40DB-B7C5-292B63831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 37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пациентах, больных алкоголизмом, наркоманиями, токсикомания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2512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37 (20 табли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50C8-514C-445B-AACB-2F41A67D1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Admin</cp:lastModifiedBy>
  <dcterms:modified xsi:type="dcterms:W3CDTF">2017-12-12T02:42:05Z</dcterms:modified>
  <cp:revision>194</cp:revision>
  <dc:subject/>
  <dc:title>PowerPoint Template</dc:title>
</cp:coreProperties>
</file>